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CD89-7A6A-4510-8F70-CEA35A39F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9CB-2EE7-44DA-B0F7-00F623779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BAF-9F1C-46E0-9DCF-09573196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803-6833-4CD2-985A-EB5319FE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5D6-2409-49F4-B3C3-5C225720C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A9A-DABF-47E1-9183-3CABC30CA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3AA-2A25-44C9-AB47-AC6AF3240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49F-8A85-4E11-94C3-F41197B9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981-61F2-4029-9555-E4333A64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CBB-98A6-497A-A061-C6444869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1C0-8871-4061-9396-5FC75655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CEF-4256-4B63-BEFD-D1824CC4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D3D-C4B5-40CF-9F8A-5158DFEB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0430-A78A-4393-8CA6-BB2EAB7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5DE3-56D3-469D-ABD3-3D7C42B5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56A5-E439-4FC5-B325-3339191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A5F5-3E26-4251-80B5-E05D0E71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389E-AB21-4D51-AA44-F1792B7D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0E2-F29C-49CF-A0FC-DB6DB4A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B0F-A8D5-4130-A5B1-7F69495B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BCA-5436-4844-B755-3D7CD20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66E4-33B4-4F4D-8A67-B85C3B1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EEB8-75E2-48BA-B679-871EA4D3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B88-2CA7-4CD1-8B7B-A6EB717B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4BC-8410-4FBD-B602-666B8AFA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BC35-2ED3-4973-9436-E0545641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61A7-CB21-4192-8F6E-4DD6268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B8A1-279A-47EB-83C5-3EBBB9D7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6E0F-1338-456A-AB17-05395028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1900-8241-4984-B8A6-E09412A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3D6-D048-41EA-B499-7FD02585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5039-8779-4912-9977-971744C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C434-3C42-4162-BC88-BED4086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3114-D5CD-46EE-9DA0-2AA63F1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9473-E687-4A56-9D16-2C55D15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0627-0B81-4EF4-84A8-0F419D2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E4CD-3F48-4ACE-A9CB-FE1ACC9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EEAE-33DA-445E-B86F-E722EF47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4E37-B12E-4703-B832-C192DD1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E8785-3BF8-41EB-9AB8-A591FB3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82CB2-4075-47D4-A29B-335BB998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EED-5129-4ED2-A7FB-98B53C1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A4D8-024E-497F-84EB-A98A93C3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6638-FFC1-46F8-A612-BA5DAD6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4535-3EE0-4EBA-8286-7022FE7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37C90-FF4B-410B-82C9-E85F5C45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E23D-7B22-413C-9E37-639B86B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A51E-CFA6-4FE9-BE95-1C14C96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E44B-96FD-4F88-B68A-5819E8D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A696-3D04-4771-9EE7-3D785799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AC52-83E2-480C-B758-E13873BB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BC6-059A-4FF2-8426-1C34152C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7CD-1EE6-43B8-A0EA-B22CD2A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611-1EDD-4CC9-840C-67F124B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C54-A23C-4763-AE5C-C610AB5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754-25EE-41AA-87FB-70E3FFE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69E9-6A8D-4FD2-A83B-5CE53E4536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003E-4144-4624-9B38-5BAEB0C384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86B-8F43-44CA-AECE-EC7B07067D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7650-6D52-4CFD-BAFB-7052452551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Title 1" descr=""/>
          <p:cNvPicPr/>
          <p:nvPr/>
        </p:nvPicPr>
        <p:blipFill>
          <a:blip r:embed="rId2"/>
          <a:stretch/>
        </p:blipFill>
        <p:spPr>
          <a:xfrm>
            <a:off x="49320" y="841320"/>
            <a:ext cx="8942400" cy="2187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1640" y="3657600"/>
            <a:ext cx="4343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anoj Kum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od Technolog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types of Metabolic Reac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0080" y="914400"/>
            <a:ext cx="8953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vitamins and amino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starch to simple suga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undigested polysaccharide to SCF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gradation of proteins to AAs, amins &amp; ammon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Hydrogen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unsaturated fatty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primary to secondary bile aci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ormation of cholesterol to other stero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eductio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nitrate to nitri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toxificatio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.g. bilirubin to urobili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oxin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tion e.g. glycolysis of cycas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arcinogen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mation e.g. synthesis of N-nitroso compoun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traight Connector 4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eneralized scheme of fermentation by human colonic microflora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240" y="12949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etary and Host produced substr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lysaccharides                        Proteins and Pept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nosaccharides                               Amino ac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l Fer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 Products                                   Bacterial M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 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4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FA    Succinate   Ethanol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Amines   BCFA   Phenols/Indophenols      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sorption and metabolism by the host or excre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breath, feces &amp; 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traight Connector 4"/>
          <p:cNvSpPr/>
          <p:nvPr/>
        </p:nvSpPr>
        <p:spPr>
          <a:xfrm>
            <a:off x="457200" y="1676520"/>
            <a:ext cx="79246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8"/>
          <p:cNvSpPr/>
          <p:nvPr/>
        </p:nvSpPr>
        <p:spPr>
          <a:xfrm>
            <a:off x="2209680" y="2286000"/>
            <a:ext cx="266760" cy="304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9"/>
          <p:cNvSpPr/>
          <p:nvPr/>
        </p:nvSpPr>
        <p:spPr>
          <a:xfrm>
            <a:off x="5867280" y="22860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10"/>
          <p:cNvSpPr/>
          <p:nvPr/>
        </p:nvSpPr>
        <p:spPr>
          <a:xfrm>
            <a:off x="2209680" y="297180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own Arrow 11"/>
          <p:cNvSpPr/>
          <p:nvPr/>
        </p:nvSpPr>
        <p:spPr>
          <a:xfrm>
            <a:off x="5867280" y="297180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eft-Right-Up Arrow 14"/>
          <p:cNvSpPr/>
          <p:nvPr/>
        </p:nvSpPr>
        <p:spPr>
          <a:xfrm>
            <a:off x="3790800" y="3809880"/>
            <a:ext cx="1028880" cy="304920"/>
          </a:xfrm>
          <a:custGeom>
            <a:avLst/>
            <a:gdLst/>
            <a:ahLst/>
            <a:rect l="l" t="t" r="r" b="b"/>
            <a:pathLst>
              <a:path w="1028700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476250" y="190500"/>
                </a:lnTo>
                <a:lnTo>
                  <a:pt x="476250" y="76200"/>
                </a:lnTo>
                <a:lnTo>
                  <a:pt x="438150" y="76200"/>
                </a:lnTo>
                <a:lnTo>
                  <a:pt x="514350" y="0"/>
                </a:lnTo>
                <a:lnTo>
                  <a:pt x="590550" y="76200"/>
                </a:lnTo>
                <a:lnTo>
                  <a:pt x="552450" y="76200"/>
                </a:lnTo>
                <a:lnTo>
                  <a:pt x="552450" y="190500"/>
                </a:lnTo>
                <a:lnTo>
                  <a:pt x="952500" y="190500"/>
                </a:lnTo>
                <a:lnTo>
                  <a:pt x="952500" y="152400"/>
                </a:lnTo>
                <a:lnTo>
                  <a:pt x="1028700" y="228600"/>
                </a:lnTo>
                <a:lnTo>
                  <a:pt x="952500" y="304800"/>
                </a:lnTo>
                <a:lnTo>
                  <a:pt x="952500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eft Arrow 15"/>
          <p:cNvSpPr/>
          <p:nvPr/>
        </p:nvSpPr>
        <p:spPr>
          <a:xfrm>
            <a:off x="5867280" y="35812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ight Arrow 16"/>
          <p:cNvSpPr/>
          <p:nvPr/>
        </p:nvSpPr>
        <p:spPr>
          <a:xfrm>
            <a:off x="2286000" y="358128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eft-Right Arrow 17"/>
          <p:cNvSpPr/>
          <p:nvPr/>
        </p:nvSpPr>
        <p:spPr>
          <a:xfrm>
            <a:off x="762120" y="4572000"/>
            <a:ext cx="6973920" cy="46080"/>
          </a:xfrm>
          <a:prstGeom prst="leftRightArrow">
            <a:avLst>
              <a:gd name="adj1" fmla="val 50000"/>
              <a:gd name="adj2" fmla="val 4974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wn Arrow 18"/>
          <p:cNvSpPr/>
          <p:nvPr/>
        </p:nvSpPr>
        <p:spPr>
          <a:xfrm>
            <a:off x="2209680" y="4343400"/>
            <a:ext cx="2444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own Arrow 19"/>
          <p:cNvSpPr/>
          <p:nvPr/>
        </p:nvSpPr>
        <p:spPr>
          <a:xfrm>
            <a:off x="14479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Arrow 20"/>
          <p:cNvSpPr/>
          <p:nvPr/>
        </p:nvSpPr>
        <p:spPr>
          <a:xfrm>
            <a:off x="217188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own Arrow 21"/>
          <p:cNvSpPr/>
          <p:nvPr/>
        </p:nvSpPr>
        <p:spPr>
          <a:xfrm>
            <a:off x="28195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own Arrow 22"/>
          <p:cNvSpPr/>
          <p:nvPr/>
        </p:nvSpPr>
        <p:spPr>
          <a:xfrm>
            <a:off x="381780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own Arrow 23"/>
          <p:cNvSpPr/>
          <p:nvPr/>
        </p:nvSpPr>
        <p:spPr>
          <a:xfrm>
            <a:off x="743112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n Arrow 24"/>
          <p:cNvSpPr/>
          <p:nvPr/>
        </p:nvSpPr>
        <p:spPr>
          <a:xfrm>
            <a:off x="53341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n Arrow 25"/>
          <p:cNvSpPr/>
          <p:nvPr/>
        </p:nvSpPr>
        <p:spPr>
          <a:xfrm>
            <a:off x="6629400" y="4648320"/>
            <a:ext cx="3049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n Arrow 26"/>
          <p:cNvSpPr/>
          <p:nvPr/>
        </p:nvSpPr>
        <p:spPr>
          <a:xfrm>
            <a:off x="118116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n Arrow 28"/>
          <p:cNvSpPr/>
          <p:nvPr/>
        </p:nvSpPr>
        <p:spPr>
          <a:xfrm>
            <a:off x="252108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29"/>
          <p:cNvSpPr/>
          <p:nvPr/>
        </p:nvSpPr>
        <p:spPr>
          <a:xfrm>
            <a:off x="3333600" y="4611600"/>
            <a:ext cx="190800" cy="515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30"/>
          <p:cNvSpPr/>
          <p:nvPr/>
        </p:nvSpPr>
        <p:spPr>
          <a:xfrm>
            <a:off x="4338720" y="466560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31"/>
          <p:cNvSpPr/>
          <p:nvPr/>
        </p:nvSpPr>
        <p:spPr>
          <a:xfrm>
            <a:off x="7201080" y="4589640"/>
            <a:ext cx="190440" cy="515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eft-Right Arrow 32"/>
          <p:cNvSpPr/>
          <p:nvPr/>
        </p:nvSpPr>
        <p:spPr>
          <a:xfrm>
            <a:off x="870120" y="5562720"/>
            <a:ext cx="6781680" cy="759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33"/>
          <p:cNvSpPr/>
          <p:nvPr/>
        </p:nvSpPr>
        <p:spPr>
          <a:xfrm>
            <a:off x="3886200" y="5715000"/>
            <a:ext cx="236520" cy="3808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34"/>
          <p:cNvSpPr/>
          <p:nvPr/>
        </p:nvSpPr>
        <p:spPr>
          <a:xfrm>
            <a:off x="762120" y="4648320"/>
            <a:ext cx="3045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22860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422"/>
                </a:solidFill>
                <a:latin typeface="Calibri"/>
              </a:rPr>
              <a:t>PROBIOTICS: History and Concept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Straight Connector 4"/>
          <p:cNvSpPr/>
          <p:nvPr/>
        </p:nvSpPr>
        <p:spPr>
          <a:xfrm>
            <a:off x="484200" y="1143000"/>
            <a:ext cx="7967520" cy="0"/>
          </a:xfrm>
          <a:prstGeom prst="line">
            <a:avLst/>
          </a:prstGeom>
          <a:ln w="63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08080" y="3973320"/>
            <a:ext cx="8518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53: The term "probiotics" was first introduced by </a:t>
            </a:r>
            <a:r>
              <a:rPr b="0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Werner Kollath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describe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organic and inorganic food supplemen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pplied to restore health to patients suffering from manlnutrition. (Hamilton-Miller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, 2003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484200" y="1295280"/>
            <a:ext cx="523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101b"/>
                </a:solidFill>
                <a:latin typeface="Trebuchet MS"/>
              </a:rPr>
              <a:t>1907: Russian noble prize winner and father of modern immunology, </a:t>
            </a:r>
            <a:r>
              <a:rPr b="0" lang="en-US" sz="2800" spc="-1" strike="noStrike">
                <a:solidFill>
                  <a:srgbClr val="0070c0"/>
                </a:solidFill>
                <a:latin typeface="Trebuchet MS"/>
              </a:rPr>
              <a:t>Elie Metchnikoff</a:t>
            </a:r>
            <a:r>
              <a:rPr b="0" lang="en-US" sz="2800" spc="-1" strike="noStrike">
                <a:solidFill>
                  <a:srgbClr val="0d101b"/>
                </a:solidFill>
                <a:latin typeface="Trebuchet MS"/>
              </a:rPr>
              <a:t>, a scientist at the Pasteur institute, was the first conceptualize “probio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940360" y="1295280"/>
            <a:ext cx="247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65: Probiotic term was coined  by Lilly and Stillwell. “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ubstances secreted by one organism which stimulate the growth of other’s”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71: “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Organisms and substances which contribute to intestinal microbial balance.”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priti,197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74: Parker defined the concept as,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Organisms and substances that have a beneficial effect on the host animal by contributing to its intestinal microbial balance”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9: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Live microbial supplements which beneficially affects the host animal by improving microbial balance.”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Fuller,198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9350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1: </a:t>
            </a:r>
            <a:r>
              <a:rPr b="0" lang="en-US" sz="3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“Live microorganisms which, when consumed in adequate amounts, confer a health benefit on the host”.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ood and Agricultural Organization / United Nations Organization / World Health Organization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rebuchet MS"/>
              </a:rPr>
              <a:t>Characteristics of Effective Probiot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1920" y="990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urviv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passage through the digestive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attach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the intestinal epithelia and coloniz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maintain good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viabi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le to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utiliz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he nutrients and substrates in a normal die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Non pathogenic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non tox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pable of exerting a </a:t>
            </a: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beneficial effec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n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tabi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f desired characteristics during processing, storage and transport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Anti-inflammatory, antimutagenic, immunostimulator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traight Connector 3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rebuchet MS"/>
              </a:rPr>
              <a:t>Composition of Pro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914400"/>
          <a:ext cx="8229600" cy="6066000"/>
        </p:xfrm>
        <a:graphic>
          <a:graphicData uri="http://schemas.openxmlformats.org/drawingml/2006/table">
            <a:tbl>
              <a:tblPr/>
              <a:tblGrid>
                <a:gridCol w="3276360"/>
                <a:gridCol w="4953240"/>
              </a:tblGrid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ctobac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bulgari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acidophi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casei subsp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ubspecies rhamno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helveti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lac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saliva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planta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delbruekii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ubspecies bulgaric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. bre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rep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alivariu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thermophi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7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c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act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lactis, cremo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euconost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L. mesenteroid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ubspeci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xtranic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ter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. fae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. faeca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ifidobacte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adolescen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bifid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long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Infan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.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46422"/>
                </a:solidFill>
                <a:latin typeface="Calibri"/>
              </a:rPr>
              <a:t>More Probiotics…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47920" y="2438280"/>
            <a:ext cx="6781680" cy="20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pionibacterium freudenreich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diococcus acidilacti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ccharomyces boulardii </a:t>
            </a:r>
            <a:r>
              <a:rPr b="1" i="1" lang="en-US" sz="2800" spc="-1" strike="noStrike">
                <a:solidFill>
                  <a:srgbClr val="003399"/>
                </a:solidFill>
                <a:latin typeface="Trebuchet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4"/>
          <p:cNvSpPr/>
          <p:nvPr/>
        </p:nvSpPr>
        <p:spPr>
          <a:xfrm>
            <a:off x="1447920" y="2057400"/>
            <a:ext cx="4343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33520" y="3047760"/>
            <a:ext cx="8229600" cy="24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rebiotic is a nondigestible  food ingredient which beneficially affects the host by selectively stimulating the growth and/or activity of one or a limited number of colonic bacteria, thereby improving the health of the host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426708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46422"/>
                </a:solidFill>
                <a:latin typeface="Calibri"/>
              </a:rPr>
              <a:t>PRE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914400" y="2438280"/>
            <a:ext cx="2895480" cy="0"/>
          </a:xfrm>
          <a:prstGeom prst="line">
            <a:avLst/>
          </a:prstGeom>
          <a:ln w="633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</a:rPr>
              <a:t>Characteristics of Prebiotic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not be hydrolyzed or absorbed in the upper part of G.I trac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 selective substrate for one or a limited number of beneficial bacterial in col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ble to alter the colonic microflora in favour of healthier composi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ould be able to induce beneficial systemic effects after absorption in the bloo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traight Connector 2"/>
          <p:cNvSpPr/>
          <p:nvPr/>
        </p:nvSpPr>
        <p:spPr>
          <a:xfrm>
            <a:off x="1066680" y="1600200"/>
            <a:ext cx="601992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350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79360" y="1828800"/>
            <a:ext cx="758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Gastrointestinal Ecolog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obiotic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ebiotic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utritional A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herapeutic A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440" y="838080"/>
            <a:ext cx="34290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46422"/>
                </a:solidFill>
                <a:latin typeface="Calibri"/>
              </a:rPr>
              <a:t>PROBIO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3520" y="1905120"/>
          <a:ext cx="7619760" cy="4495680"/>
        </p:xfrm>
        <a:graphic>
          <a:graphicData uri="http://schemas.openxmlformats.org/drawingml/2006/table">
            <a:tbl>
              <a:tblPr/>
              <a:tblGrid>
                <a:gridCol w="4038480"/>
                <a:gridCol w="3581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tritional Asp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rapeutic Asp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ynthesis of B-Vitam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Digest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icholesterolemic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Lactose Uti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agon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tutimour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cterial Vagin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rrh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rculatory Disor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stip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69608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Synthesis of B-Vitamin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3047760"/>
            <a:ext cx="822960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me bacteria including probiotics found in the gut produce vitamins. For example, they produce vitamin K (Cooke, 200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lic acid, (Strozzi, 2008) and vitamin B12 (Molina, 2009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traight Connector 4"/>
          <p:cNvSpPr/>
          <p:nvPr/>
        </p:nvSpPr>
        <p:spPr>
          <a:xfrm flipV="1">
            <a:off x="609480" y="2514600"/>
            <a:ext cx="6400800" cy="76320"/>
          </a:xfrm>
          <a:prstGeom prst="line">
            <a:avLst/>
          </a:prstGeom>
          <a:ln w="63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57200" y="609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tritional A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47712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Improved Digestibilit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3425400"/>
            <a:ext cx="2909880" cy="1143000"/>
          </a:xfrm>
          <a:prstGeom prst="rect">
            <a:avLst/>
          </a:prstGeom>
          <a:noFill/>
          <a:ln w="9360">
            <a:solidFill>
              <a:srgbClr val="115964"/>
            </a:solidFill>
            <a:miter/>
          </a:ln>
        </p:spPr>
        <p:txBody>
          <a:bodyPr anchor="t">
            <a:normAutofit fontScale="8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Compon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/Fat/Su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3981600" y="205884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hydrolysis by enzymes elaborated by Pro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6611760" y="35812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iges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V="1">
            <a:off x="685800" y="1371240"/>
            <a:ext cx="6095880" cy="152280"/>
          </a:xfrm>
          <a:prstGeom prst="line">
            <a:avLst/>
          </a:prstGeom>
          <a:ln w="633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ight Arrow 9"/>
          <p:cNvSpPr/>
          <p:nvPr/>
        </p:nvSpPr>
        <p:spPr>
          <a:xfrm>
            <a:off x="3543480" y="3998880"/>
            <a:ext cx="3009600" cy="1522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f6fc6"/>
          </a:solidFill>
          <a:ln w="25560">
            <a:solidFill>
              <a:srgbClr val="4f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6760" y="-76680"/>
            <a:ext cx="770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ticholesterolaemic Effec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4446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urce of cholester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3979800" y="129528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genous/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ogenous/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5704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sterol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750960" y="304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synthesis + Dietary CH = Faecal excretion of 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ile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257040" y="387828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sterol reduc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1371600" y="4724280"/>
            <a:ext cx="66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H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absorption of dietary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catabolism of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2"/>
          <p:cNvSpPr/>
          <p:nvPr/>
        </p:nvSpPr>
        <p:spPr>
          <a:xfrm>
            <a:off x="598320" y="1081080"/>
            <a:ext cx="7467840" cy="0"/>
          </a:xfrm>
          <a:prstGeom prst="line">
            <a:avLst/>
          </a:prstGeom>
          <a:ln w="63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Improved Lactose Utilizatio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71560" y="1358640"/>
            <a:ext cx="6934320" cy="990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9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ctose Malabsorption/Lactose Intoler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Lactose Maldig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187280" y="2362320"/>
            <a:ext cx="7061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Arial"/>
              </a:rPr>
              <a:t>Inability of a person to digest lactose adequ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5"/>
          <p:cNvSpPr/>
          <p:nvPr/>
        </p:nvSpPr>
        <p:spPr>
          <a:xfrm flipV="1">
            <a:off x="685800" y="1143000"/>
            <a:ext cx="7848720" cy="76320"/>
          </a:xfrm>
          <a:prstGeom prst="line">
            <a:avLst/>
          </a:prstGeom>
          <a:ln w="63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TextBox 7" descr=""/>
          <p:cNvPicPr/>
          <p:nvPr/>
        </p:nvPicPr>
        <p:blipFill>
          <a:blip r:embed="rId1"/>
          <a:stretch/>
        </p:blipFill>
        <p:spPr>
          <a:xfrm>
            <a:off x="920880" y="3651120"/>
            <a:ext cx="804600" cy="23655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9"/>
          <p:cNvSpPr/>
          <p:nvPr/>
        </p:nvSpPr>
        <p:spPr>
          <a:xfrm>
            <a:off x="5238720" y="4629240"/>
            <a:ext cx="25336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lucose + Gala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1676520" y="4354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stinal beta-galactos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1690560" y="3973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entation by colon microfl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3"/>
          <p:cNvSpPr/>
          <p:nvPr/>
        </p:nvSpPr>
        <p:spPr>
          <a:xfrm>
            <a:off x="5262480" y="3592440"/>
            <a:ext cx="191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7176960" y="3267000"/>
            <a:ext cx="1357560" cy="9169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rho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iped Right Arrow 16"/>
          <p:cNvSpPr/>
          <p:nvPr/>
        </p:nvSpPr>
        <p:spPr>
          <a:xfrm>
            <a:off x="1693800" y="4830840"/>
            <a:ext cx="3487680" cy="46080"/>
          </a:xfrm>
          <a:custGeom>
            <a:avLst/>
            <a:gdLst/>
            <a:ahLst/>
            <a:rect l="l" t="t" r="r" b="b"/>
            <a:pathLst>
              <a:path w="3487737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19" y="11509"/>
                </a:lnTo>
                <a:lnTo>
                  <a:pt x="3464719" y="0"/>
                </a:lnTo>
                <a:lnTo>
                  <a:pt x="3487737" y="23019"/>
                </a:lnTo>
                <a:lnTo>
                  <a:pt x="3464719" y="46037"/>
                </a:lnTo>
                <a:lnTo>
                  <a:pt x="3464719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iped Right Arrow 17"/>
          <p:cNvSpPr/>
          <p:nvPr/>
        </p:nvSpPr>
        <p:spPr>
          <a:xfrm>
            <a:off x="1650960" y="3763800"/>
            <a:ext cx="3487680" cy="46080"/>
          </a:xfrm>
          <a:custGeom>
            <a:avLst/>
            <a:gdLst/>
            <a:ahLst/>
            <a:rect l="l" t="t" r="r" b="b"/>
            <a:pathLst>
              <a:path w="3487738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20" y="11509"/>
                </a:lnTo>
                <a:lnTo>
                  <a:pt x="3464720" y="0"/>
                </a:lnTo>
                <a:lnTo>
                  <a:pt x="3487738" y="23019"/>
                </a:lnTo>
                <a:lnTo>
                  <a:pt x="3464720" y="46037"/>
                </a:lnTo>
                <a:lnTo>
                  <a:pt x="3464720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1693800" y="5573880"/>
            <a:ext cx="48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actic/Heterolactic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iped Right Arrow 19"/>
          <p:cNvSpPr/>
          <p:nvPr/>
        </p:nvSpPr>
        <p:spPr>
          <a:xfrm>
            <a:off x="1693800" y="5516640"/>
            <a:ext cx="3487680" cy="46080"/>
          </a:xfrm>
          <a:custGeom>
            <a:avLst/>
            <a:gdLst/>
            <a:ahLst/>
            <a:rect l="l" t="t" r="r" b="b"/>
            <a:pathLst>
              <a:path w="3487737" h="46037">
                <a:moveTo>
                  <a:pt x="0" y="11509"/>
                </a:moveTo>
                <a:lnTo>
                  <a:pt x="1439" y="11509"/>
                </a:lnTo>
                <a:lnTo>
                  <a:pt x="1439" y="34528"/>
                </a:lnTo>
                <a:lnTo>
                  <a:pt x="0" y="34528"/>
                </a:lnTo>
                <a:lnTo>
                  <a:pt x="0" y="11509"/>
                </a:lnTo>
                <a:close/>
                <a:moveTo>
                  <a:pt x="2877" y="11509"/>
                </a:moveTo>
                <a:lnTo>
                  <a:pt x="5755" y="11509"/>
                </a:lnTo>
                <a:lnTo>
                  <a:pt x="5755" y="34528"/>
                </a:lnTo>
                <a:lnTo>
                  <a:pt x="2877" y="34528"/>
                </a:lnTo>
                <a:lnTo>
                  <a:pt x="2877" y="11509"/>
                </a:lnTo>
                <a:close/>
                <a:moveTo>
                  <a:pt x="7193" y="11509"/>
                </a:moveTo>
                <a:lnTo>
                  <a:pt x="3464719" y="11509"/>
                </a:lnTo>
                <a:lnTo>
                  <a:pt x="3464719" y="0"/>
                </a:lnTo>
                <a:lnTo>
                  <a:pt x="3487737" y="23019"/>
                </a:lnTo>
                <a:lnTo>
                  <a:pt x="3464719" y="46037"/>
                </a:lnTo>
                <a:lnTo>
                  <a:pt x="3464719" y="34528"/>
                </a:lnTo>
                <a:lnTo>
                  <a:pt x="7193" y="34528"/>
                </a:lnTo>
                <a:lnTo>
                  <a:pt x="7193" y="1150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5433840" y="5315040"/>
            <a:ext cx="332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tic Acid + ETOH +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1650960" y="49928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/intra cellular beta-galactos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4"/>
          <p:cNvSpPr/>
          <p:nvPr/>
        </p:nvSpPr>
        <p:spPr>
          <a:xfrm>
            <a:off x="8453880" y="4361040"/>
            <a:ext cx="48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Therapeutic Asp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15520"/>
            <a:ext cx="371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tagonis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722160" y="220968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 inhibition of contaminating flora during ferment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hibition of harmful intestinal microflora after consumption of ferment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819000" y="3753000"/>
            <a:ext cx="177192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865080" y="4343400"/>
            <a:ext cx="632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acids: Lactic acid, acetic acid, propion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spectrum antago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ce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oc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954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tutimour Activiti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6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cer: Set of Diseases, in which uncontrolled growth of cells takes 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TextBox 3" descr=""/>
          <p:cNvPicPr/>
          <p:nvPr/>
        </p:nvPicPr>
        <p:blipFill>
          <a:blip r:embed="rId1"/>
          <a:stretch/>
        </p:blipFill>
        <p:spPr>
          <a:xfrm>
            <a:off x="4979880" y="1646280"/>
            <a:ext cx="3005280" cy="4935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657600" y="2421000"/>
            <a:ext cx="236376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on or aut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6172200" y="2421000"/>
            <a:ext cx="175248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3200400" y="3048120"/>
            <a:ext cx="2820960" cy="3682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l ce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380880" y="3733920"/>
            <a:ext cx="502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r enhancement of immu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80880" y="4278240"/>
            <a:ext cx="266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ion of tumou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380880" y="496404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ion of carci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380880" y="5602320"/>
            <a:ext cx="7391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ion of microorganisms that may convert pro-carcinogens into carci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13"/>
          <p:cNvSpPr/>
          <p:nvPr/>
        </p:nvSpPr>
        <p:spPr>
          <a:xfrm>
            <a:off x="6743880" y="2975040"/>
            <a:ext cx="304560" cy="26272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eft Arrow 14"/>
          <p:cNvSpPr/>
          <p:nvPr/>
        </p:nvSpPr>
        <p:spPr>
          <a:xfrm>
            <a:off x="3827520" y="5076720"/>
            <a:ext cx="2562120" cy="22392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eft Arrow 15"/>
          <p:cNvSpPr/>
          <p:nvPr/>
        </p:nvSpPr>
        <p:spPr>
          <a:xfrm>
            <a:off x="3859200" y="4375080"/>
            <a:ext cx="2562120" cy="22392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Down Arrow 17"/>
          <p:cNvSpPr/>
          <p:nvPr/>
        </p:nvSpPr>
        <p:spPr>
          <a:xfrm>
            <a:off x="5716440" y="3417840"/>
            <a:ext cx="304920" cy="8715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own Arrow 18"/>
          <p:cNvSpPr/>
          <p:nvPr/>
        </p:nvSpPr>
        <p:spPr>
          <a:xfrm>
            <a:off x="5715000" y="2789280"/>
            <a:ext cx="304920" cy="25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Down Arrow 19"/>
          <p:cNvSpPr/>
          <p:nvPr/>
        </p:nvSpPr>
        <p:spPr>
          <a:xfrm>
            <a:off x="5715000" y="2179800"/>
            <a:ext cx="304920" cy="258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own Arrow 20"/>
          <p:cNvSpPr/>
          <p:nvPr/>
        </p:nvSpPr>
        <p:spPr>
          <a:xfrm>
            <a:off x="6743880" y="2124000"/>
            <a:ext cx="304560" cy="25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eft Arrow 21"/>
          <p:cNvSpPr/>
          <p:nvPr/>
        </p:nvSpPr>
        <p:spPr>
          <a:xfrm>
            <a:off x="5486400" y="3733920"/>
            <a:ext cx="228600" cy="3045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A habit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that can really benefits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       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our overall health-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              “</a:t>
            </a:r>
            <a:r>
              <a:rPr b="0" lang="en-US" sz="3600" spc="-1" strike="noStrike">
                <a:solidFill>
                  <a:srgbClr val="2f18a4"/>
                </a:solidFill>
                <a:latin typeface="Constantia"/>
              </a:rPr>
              <a:t>TAKING PROBIOTICS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nstanti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7" name="Picture 11" descr="probiotics-good-bacteria"/>
          <p:cNvPicPr/>
          <p:nvPr/>
        </p:nvPicPr>
        <p:blipFill>
          <a:blip r:embed="rId1"/>
          <a:stretch/>
        </p:blipFill>
        <p:spPr>
          <a:xfrm>
            <a:off x="6934320" y="3048120"/>
            <a:ext cx="1981080" cy="2209680"/>
          </a:xfrm>
          <a:prstGeom prst="rect">
            <a:avLst/>
          </a:prstGeom>
          <a:ln w="0">
            <a:noFill/>
          </a:ln>
        </p:spPr>
      </p:pic>
      <p:sp>
        <p:nvSpPr>
          <p:cNvPr id="368" name="WordArt 13"/>
          <p:cNvSpPr txBox="1"/>
          <p:nvPr/>
        </p:nvSpPr>
        <p:spPr>
          <a:xfrm>
            <a:off x="914400" y="2209680"/>
            <a:ext cx="719136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iotics Revolution Beg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2757600" y="6854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5"/>
                </a:solidFill>
                <a:latin typeface="Calibri"/>
              </a:rPr>
              <a:t>Thank You</a:t>
            </a:r>
            <a:r>
              <a:rPr b="0" lang="en-US" sz="5000" spc="-1" strike="noStrike">
                <a:solidFill>
                  <a:srgbClr val="0b5395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55840" y="885960"/>
            <a:ext cx="5790960" cy="59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astrointestinal Tra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Content Placeholder 10" descr=""/>
          <p:cNvPicPr/>
          <p:nvPr/>
        </p:nvPicPr>
        <p:blipFill>
          <a:blip r:embed="rId1"/>
          <a:stretch/>
        </p:blipFill>
        <p:spPr>
          <a:xfrm>
            <a:off x="5562720" y="3505320"/>
            <a:ext cx="25146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Box 11"/>
          <p:cNvSpPr/>
          <p:nvPr/>
        </p:nvSpPr>
        <p:spPr>
          <a:xfrm>
            <a:off x="1511280" y="163836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iologically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unctions of Large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1535040" y="327672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"/>
          <p:cNvSpPr/>
          <p:nvPr/>
        </p:nvSpPr>
        <p:spPr>
          <a:xfrm>
            <a:off x="1495440" y="1660680"/>
            <a:ext cx="566424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6"/>
          <p:cNvSpPr/>
          <p:nvPr/>
        </p:nvSpPr>
        <p:spPr>
          <a:xfrm>
            <a:off x="1047600" y="2789280"/>
            <a:ext cx="702972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438280" y="4761000"/>
            <a:ext cx="226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09120" y="95220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E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WB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edominating facultative anaerob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.g.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E.coli, Streptococci, Enterococ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ighly reduced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minated growth of obligatory anaerob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01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ut microbial bal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124000" y="985680"/>
            <a:ext cx="149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TextBox 4"/>
          <p:cNvGrpSpPr/>
          <p:nvPr/>
        </p:nvGrpSpPr>
        <p:grpSpPr>
          <a:xfrm>
            <a:off x="2494080" y="1889280"/>
            <a:ext cx="5771880" cy="761760"/>
            <a:chOff x="2494080" y="1889280"/>
            <a:chExt cx="5771880" cy="761760"/>
          </a:xfrm>
        </p:grpSpPr>
        <p:pic>
          <p:nvPicPr>
            <p:cNvPr id="217" name="TextBox 4" descr=""/>
            <p:cNvPicPr/>
            <p:nvPr/>
          </p:nvPicPr>
          <p:blipFill>
            <a:blip r:embed="rId1"/>
            <a:stretch/>
          </p:blipFill>
          <p:spPr>
            <a:xfrm>
              <a:off x="2494080" y="1889280"/>
              <a:ext cx="577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646360" y="196380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oculated by environment during bi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5"/>
          <p:cNvSpPr/>
          <p:nvPr/>
        </p:nvSpPr>
        <p:spPr>
          <a:xfrm>
            <a:off x="4843440" y="6276960"/>
            <a:ext cx="40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 weaning≥02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own Arrow 6"/>
          <p:cNvSpPr/>
          <p:nvPr/>
        </p:nvSpPr>
        <p:spPr>
          <a:xfrm>
            <a:off x="973080" y="1589040"/>
            <a:ext cx="84924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11"/>
          <p:cNvSpPr/>
          <p:nvPr/>
        </p:nvSpPr>
        <p:spPr>
          <a:xfrm>
            <a:off x="938160" y="2467080"/>
            <a:ext cx="8478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own Arrow 12"/>
          <p:cNvSpPr/>
          <p:nvPr/>
        </p:nvSpPr>
        <p:spPr>
          <a:xfrm>
            <a:off x="976320" y="3878280"/>
            <a:ext cx="847800" cy="442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own Arrow 13"/>
          <p:cNvSpPr/>
          <p:nvPr/>
        </p:nvSpPr>
        <p:spPr>
          <a:xfrm>
            <a:off x="990720" y="4809960"/>
            <a:ext cx="847440" cy="44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62120" y="47520"/>
            <a:ext cx="83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quisition of gut flora in human inf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9"/>
          <p:cNvSpPr/>
          <p:nvPr/>
        </p:nvSpPr>
        <p:spPr>
          <a:xfrm>
            <a:off x="838080" y="631800"/>
            <a:ext cx="706284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extBox 10" descr=""/>
          <p:cNvPicPr/>
          <p:nvPr/>
        </p:nvPicPr>
        <p:blipFill>
          <a:blip r:embed="rId2"/>
          <a:stretch/>
        </p:blipFill>
        <p:spPr>
          <a:xfrm>
            <a:off x="3560760" y="549900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mposition of Gut Microflo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9600" y="4571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have 10 times the amount of microbial cells than total other cells, with 500 types of microorganisms which mostly reside in our gu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762120" y="2340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581280" y="2265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ukaryotic Cells≈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524400" y="28576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okaryotic Cells≈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Arial Unicode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TextBox 7"/>
          <p:cNvGrpSpPr/>
          <p:nvPr/>
        </p:nvGrpSpPr>
        <p:grpSpPr>
          <a:xfrm>
            <a:off x="579600" y="3565440"/>
            <a:ext cx="8010360" cy="833400"/>
            <a:chOff x="579600" y="3565440"/>
            <a:chExt cx="8010360" cy="833400"/>
          </a:xfrm>
        </p:grpSpPr>
        <p:pic>
          <p:nvPicPr>
            <p:cNvPr id="233" name="TextBox 7" descr=""/>
            <p:cNvPicPr/>
            <p:nvPr/>
          </p:nvPicPr>
          <p:blipFill>
            <a:blip r:embed="rId1"/>
            <a:stretch/>
          </p:blipFill>
          <p:spPr>
            <a:xfrm>
              <a:off x="579600" y="3565440"/>
              <a:ext cx="8010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84280" y="357336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≈</a:t>
              </a: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Arial Unicode MS"/>
                </a:rPr>
                <a:t>500 Genera with several hundred species of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Straight Connector 9"/>
          <p:cNvSpPr/>
          <p:nvPr/>
        </p:nvSpPr>
        <p:spPr>
          <a:xfrm>
            <a:off x="457200" y="2057400"/>
            <a:ext cx="7772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ight Arrow 10"/>
          <p:cNvSpPr/>
          <p:nvPr/>
        </p:nvSpPr>
        <p:spPr>
          <a:xfrm>
            <a:off x="3298680" y="2438280"/>
            <a:ext cx="228600" cy="23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ight Arrow 11"/>
          <p:cNvSpPr/>
          <p:nvPr/>
        </p:nvSpPr>
        <p:spPr>
          <a:xfrm>
            <a:off x="3298680" y="3048120"/>
            <a:ext cx="228600" cy="1936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 flipH="1">
            <a:off x="685080" y="28717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rebuchet MS"/>
              </a:rPr>
              <a:t>Intestinal Microflora: Location &amp; Prevalen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are in the esophag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common in the stom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imarily Gram (+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in the jejunum – primarily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in the col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imarily an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000x more anerobes than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traight Connector 2"/>
          <p:cNvSpPr/>
          <p:nvPr/>
        </p:nvSpPr>
        <p:spPr>
          <a:xfrm flipV="1">
            <a:off x="990720" y="1790640"/>
            <a:ext cx="6400800" cy="3816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60520" y="498240"/>
            <a:ext cx="749592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There are up to 400-500 different bacterial species in the colon and the vast majority (99.9%) are strict anaerob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47560" y="2006280"/>
            <a:ext cx="3657600" cy="469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n-sporing anaerob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acteriodes spp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ifidobacterium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ubacterium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ropionibacterium sp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eillonella spp.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oring an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lostridium spp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oring aerob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acillus sp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648320" y="2766960"/>
            <a:ext cx="335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aeroph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actobacillus spp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eptococcus spp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erococc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cultative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liform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 Enterobac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582480" y="1459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6"/>
          <p:cNvSpPr/>
          <p:nvPr/>
        </p:nvSpPr>
        <p:spPr>
          <a:xfrm>
            <a:off x="560520" y="1523880"/>
            <a:ext cx="74404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82480" y="1996920"/>
            <a:ext cx="7444080" cy="60480"/>
          </a:xfrm>
          <a:prstGeom prst="rect">
            <a:avLst/>
          </a:prstGeom>
          <a:ln w="0">
            <a:noFill/>
          </a:ln>
        </p:spPr>
      </p:pic>
      <p:sp>
        <p:nvSpPr>
          <p:cNvPr id="248" name="Straight Connector 7"/>
          <p:cNvSpPr/>
          <p:nvPr/>
        </p:nvSpPr>
        <p:spPr>
          <a:xfrm>
            <a:off x="560520" y="609480"/>
            <a:ext cx="74404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360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GUT MICROBIAL BALAN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42640" y="243792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usive &amp; improper dietary habit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va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cohol consump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eases of Intestinal Trac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l antibiotic therap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rgical Operation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4"/>
          <p:cNvSpPr/>
          <p:nvPr/>
        </p:nvSpPr>
        <p:spPr>
          <a:xfrm>
            <a:off x="990720" y="2133720"/>
            <a:ext cx="662940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0440" y="151920"/>
            <a:ext cx="845496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ubstrates for colonic bacterial growth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istant star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lysacchar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absorbed sugar-Lactose, Raffinose, Stachyo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ligosaccharides-Fructo-oligosaccharides ( oligofructose, inul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tary and endogenous proteins (e.g. pancreatic enzyme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gar alcohol- Sorbitol, Xylito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ogenous carbohydrates-Glycoproteins (e.g. muc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food addi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traight Connector 4"/>
          <p:cNvSpPr/>
          <p:nvPr/>
        </p:nvSpPr>
        <p:spPr>
          <a:xfrm>
            <a:off x="533520" y="1066680"/>
            <a:ext cx="7696080" cy="0"/>
          </a:xfrm>
          <a:prstGeom prst="line">
            <a:avLst/>
          </a:prstGeom>
          <a:ln w="63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9:34:29Z</dcterms:created>
  <dc:creator>Jill</dc:creator>
  <dc:description/>
  <dc:language>en-US</dc:language>
  <cp:lastModifiedBy>manoj</cp:lastModifiedBy>
  <dcterms:modified xsi:type="dcterms:W3CDTF">2014-12-15T20:39:06Z</dcterms:modified>
  <cp:revision>118</cp:revision>
  <dc:subject/>
  <dc:title>Your Gut and Probiotics</dc:title>
</cp:coreProperties>
</file>